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707276"/>
        <c:axId val="72759666"/>
      </c:barChart>
      <c:catAx>
        <c:axId val="427072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759666"/>
        <c:crosses val="autoZero"/>
        <c:auto val="1"/>
        <c:lblAlgn val="ctr"/>
        <c:lblOffset val="100"/>
        <c:noMultiLvlLbl val="0"/>
      </c:catAx>
      <c:valAx>
        <c:axId val="727596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7072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D937-48A2-4032-BED1-7FD49C079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7656-E152-426F-B2F5-1F93F4FA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1F94-1921-42EA-BB31-0DBEFC5D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080C-209F-40B7-BD4E-298DA824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2FA7-85EA-411C-ABFA-AC7DF00A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3DB7-8021-4C62-AF7B-7AA35E10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E0C5-D439-41E2-A279-57D8AF54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F2B7-AA83-4710-902A-86A91E5B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479B-D18C-4D2A-84DD-C3AC154D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EEDC-B204-42B3-8A6B-B2E888AD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6BD7-5E77-45A2-9568-871C896A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32C9-83F0-49DF-9FFA-DBE01EC5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2332A-D925-47CD-A86A-BCABF0E0D3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